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86719"/>
        <c:axId val="57102208"/>
      </c:barChart>
      <c:catAx>
        <c:axId val="5168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02208"/>
        <c:crosses val="autoZero"/>
        <c:auto val="1"/>
        <c:lblAlgn val="ctr"/>
        <c:lblOffset val="100"/>
        <c:noMultiLvlLbl val="0"/>
      </c:catAx>
      <c:valAx>
        <c:axId val="57102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127-A009-4994-B5C3-56F27626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1BD-8BDF-43A4-A1AA-DC65514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BB0-9864-4063-885D-87DB47FC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6F5-885F-4721-B029-A91ED72D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114-7620-47AD-900E-6AC6369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D5A-333B-4B8E-B8E9-353FC18A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569-0CF9-4703-915D-8CBE0AA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00C-2727-4AFB-9815-E39D934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E7A-225A-4516-A4F0-F044D01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500-850A-43B7-B39D-B108646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9C4-4009-4261-9529-8BD853F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BF8-8134-470C-A275-5EC029B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54981-CA14-4499-9152-B911665ED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