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24533"/>
        <c:axId val="33957556"/>
      </c:barChart>
      <c:catAx>
        <c:axId val="712245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57556"/>
        <c:crosses val="autoZero"/>
        <c:auto val="1"/>
        <c:lblAlgn val="ctr"/>
        <c:lblOffset val="100"/>
        <c:noMultiLvlLbl val="0"/>
      </c:catAx>
      <c:valAx>
        <c:axId val="33957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245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ADE-8820-484E-B843-49E39D53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383-8E77-4319-B35D-0343620B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EA9-160A-48FB-BE92-19680782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EE0-B793-43F5-B8C8-A748E498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4E8-3B04-45A5-8AD3-9E3DBCEA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7C8-1DFB-4631-8BAC-E0A97534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1CE-A224-4F6B-AD92-12EAA11C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B60-DC02-4818-9374-65171B3F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92A-218C-4E15-9338-0CE3EE08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CFD-20EC-4C76-A124-EC947867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7A3-8899-435E-AA46-0E61FA6D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A64-30FF-442A-A573-A5D59BDC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270DB-F7D3-4431-82AA-414EA59466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