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86925"/>
        <c:axId val="69554323"/>
      </c:barChart>
      <c:catAx>
        <c:axId val="83286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54323"/>
        <c:crosses val="autoZero"/>
        <c:auto val="1"/>
        <c:lblAlgn val="ctr"/>
        <c:lblOffset val="100"/>
        <c:noMultiLvlLbl val="0"/>
      </c:catAx>
      <c:valAx>
        <c:axId val="69554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86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FFD-1737-4BD6-A83D-C6DB4396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30F-3B54-46BC-92BE-E9325BAF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601-CEDC-4BCB-A907-2DC6D5E2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D9F-C306-4A43-9E89-D83E375D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B31-D87A-4723-9872-7E1FBE53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59E-15AE-47C5-99C8-3EB6CCD2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0D6-4DD6-44AF-ACFB-F5ACA4EE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A2A-6DA2-407A-B384-43CA429A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76C-983B-4C5A-8A5C-9E2BADC9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321-CB98-45BE-9C05-0ED60152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36E-32E8-41EE-8C62-BB0F4AF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8C0-11A4-47C1-8C51-09AD9EC7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5A199-8985-417E-8703-06463773EA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