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5291"/>
        <c:axId val="45199525"/>
      </c:barChart>
      <c:catAx>
        <c:axId val="3695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9525"/>
        <c:crosses val="autoZero"/>
        <c:auto val="1"/>
        <c:lblAlgn val="ctr"/>
        <c:lblOffset val="100"/>
        <c:noMultiLvlLbl val="0"/>
      </c:catAx>
      <c:valAx>
        <c:axId val="45199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5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937-DD61-4019-801D-D64D730F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442-25FD-4E83-8F18-C280DFE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24F-B9D7-4BC4-8BFC-D082AE9A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ACA-3860-4360-95BF-E27B8D78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1ED-9086-489C-A364-A588B81F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028-69A4-4BB4-B28D-EEDA1E1C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D21-3256-4967-848C-8BE9E6EA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A90-926E-4262-9C5A-CAF0D8E0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158-351C-4BDC-8C3B-AB0FD16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8B8-DB65-4583-9C8C-2B8D593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796-7F2D-40DD-AFBD-69334F0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BCE-2081-4302-817D-FA8A001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644F-39DE-44CA-9B89-9118ACD900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