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33833"/>
        <c:axId val="38780184"/>
      </c:barChart>
      <c:catAx>
        <c:axId val="25933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80184"/>
        <c:crosses val="autoZero"/>
        <c:auto val="1"/>
        <c:lblAlgn val="ctr"/>
        <c:lblOffset val="100"/>
        <c:noMultiLvlLbl val="0"/>
      </c:catAx>
      <c:valAx>
        <c:axId val="38780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3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0F1-5693-4FD8-A967-A645AAB1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AAE-C079-4528-8668-FA42A8D0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97A-11DE-4A86-9E97-96BBBD75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867-351C-4A39-A03D-75124A3C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F15-7C73-484D-ABC9-81E7070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953-6F18-42C9-94F2-F7C853F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01B-7399-4B11-8A55-437AEF22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C44-2036-4C15-8310-74B9D569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FE4-65F8-483D-9757-7F30A19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3D4-B825-40E3-9FE8-40C4AC4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086-51FC-4079-A0CC-7292FCA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BEA-F130-466E-87C1-67FF6E3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E84B4-060F-4D58-9ECC-F99F6ABF04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