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99359"/>
        <c:axId val="4422830"/>
      </c:barChart>
      <c:catAx>
        <c:axId val="26299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2830"/>
        <c:crosses val="autoZero"/>
        <c:auto val="1"/>
        <c:lblAlgn val="ctr"/>
        <c:lblOffset val="100"/>
        <c:noMultiLvlLbl val="0"/>
      </c:catAx>
      <c:valAx>
        <c:axId val="4422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99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28A-04F7-41BD-B0AF-BABC7531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47C-9217-4212-98ED-6C774E11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FC1-E48D-48E5-84F0-88EE3D0E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AC8-5E3A-44FC-B145-45E89700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664-F86C-492E-B895-A74F3367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256-24D2-4757-A0AF-8F66DD46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4D9-04FD-4167-A4C2-7803A239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EBD-E52C-4201-99DD-79312E70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B73-61E2-4F0B-8874-0E40F410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0A6-6A55-4276-A572-6940EA0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730-69B0-4413-ADB2-C5EF6C85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8DA-C313-4F6F-8A37-CC510DF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A1C5D-4727-488B-A2A3-F1DC76663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