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157541"/>
        <c:axId val="82756767"/>
      </c:barChart>
      <c:catAx>
        <c:axId val="671575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56767"/>
        <c:crosses val="autoZero"/>
        <c:auto val="1"/>
        <c:lblAlgn val="ctr"/>
        <c:lblOffset val="100"/>
        <c:noMultiLvlLbl val="0"/>
      </c:catAx>
      <c:valAx>
        <c:axId val="827567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575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889D-EC75-4BEE-885C-3D2963B5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1CC3-0608-41AC-A530-67FE5DF7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FB66-6670-4049-9DA5-DEA358D4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CE6D-BB31-4384-AC34-54093E84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F850-4A44-4121-B519-0978BF91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DFFF-5A2E-4156-9C78-9B11FF2D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C702-2F3E-421E-88F6-8495D2B4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1279-35D2-43E9-B66F-68523D6E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A19C-C4DF-4C03-B3A1-B710F539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5546-6A59-471B-953C-1020435C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96D1-B32E-4B8E-9DCA-916B3CD3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86A2-D32D-4176-AD8D-4EC68FA6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DA2CB-1DA9-4CF7-B546-AE72E7ECED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