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68510"/>
        <c:axId val="92984908"/>
      </c:barChart>
      <c:catAx>
        <c:axId val="26068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4908"/>
        <c:crosses val="autoZero"/>
        <c:auto val="1"/>
        <c:lblAlgn val="ctr"/>
        <c:lblOffset val="100"/>
        <c:noMultiLvlLbl val="0"/>
      </c:catAx>
      <c:valAx>
        <c:axId val="92984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8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312-9914-46DC-ADB5-44968C73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D5F-627A-46E3-971D-764277E4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45E-7BE7-486D-A2C8-5C590E12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BE9-6C14-462D-BBE1-17132B5D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785-55C5-42ED-9294-C32AE42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E56-4840-429D-937F-387593EB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BC4-8BF6-40CA-B6F5-B2BCCB51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591-F7BA-4689-AC8C-27F509D6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42C-B025-432D-87AE-F98AB7BC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4EE-5E10-4EC6-B319-26AC544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FC9-A4AF-4E19-94E1-B97A19F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065-3219-4573-8256-751307A4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2EF67-42FF-44A8-ABC6-72E6F710F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