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0625327"/>
        <c:axId val="48058399"/>
      </c:barChart>
      <c:catAx>
        <c:axId val="90625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8058399"/>
        <c:crosses val="autoZero"/>
        <c:auto val="1"/>
        <c:lblAlgn val="ctr"/>
        <c:lblOffset val="100"/>
        <c:noMultiLvlLbl val="0"/>
      </c:catAx>
      <c:valAx>
        <c:axId val="4805839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0625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1F1-488E-4C74-A8F2-69F30F44F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19FC5-53FC-4921-8E2F-DEB06C43B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4DFF4-E20E-4814-8321-14B7AD71E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32C8-E268-4199-B825-CAB9883BE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FD31E-06F6-44A6-B949-138EE8E1A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5CD7-AF5C-46DE-8A15-F483AAC8E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CB3-DA44-4A1F-AEE5-C87D9BAD6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2D41-2C80-4AA5-9F83-40248991A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22FF-543A-41EE-B50E-0B9D4015E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15AF-E530-4E9C-922B-96B23DB7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3072-8AB8-48EB-946C-A8B642B32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A6942-287F-40E6-A312-3B4D9ACDC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FCF2E-8ED6-411B-99EF-C85EFDD9530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